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5CA-F4DB-4BBF-8413-5BADFCB5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1E7-EF4E-4561-8B5E-DB8A99F5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8CE-C572-45D8-AB92-07411B50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342-84A8-4312-8717-BA9CA146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E12-EAEA-4CDC-869C-DBF582AE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EF6-3757-475D-828A-F12F96E0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0F7-EB05-4429-8781-A18D2A84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DA9-B080-44AD-9490-A775E8A5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B5C-EEEC-4CAE-AC45-E759C867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B6B-AE88-418F-A119-04A8976A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DBC-6A72-42CE-A042-110AD0FA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650-15C8-4E18-9590-4789ADAB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F3D5-3E72-43BF-8CF6-A9B5A2E20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taking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 + By =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- must b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and y must be on the left of th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ractions or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ng Ax + By = 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= -A/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intercept = C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intercept = C/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 + y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– y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int = -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int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44575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/5x +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y = 2x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 + 5y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– 5y = 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int =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int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267080" y="2438280"/>
            <a:ext cx="41529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 = 1/2y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x = y +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x – y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+ y = 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int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int = 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43052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in standard 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,1) and (3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– 1 = ½(x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– 1 = 1/2x 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y – 2 = x –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– 2y 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4:48:23Z</dcterms:created>
  <dc:creator>Troy Clarke</dc:creator>
  <dc:description/>
  <dc:language>en-US</dc:language>
  <cp:lastModifiedBy>Troy Clarke</cp:lastModifiedBy>
  <dcterms:modified xsi:type="dcterms:W3CDTF">2007-12-05T15:07:14Z</dcterms:modified>
  <cp:revision>3</cp:revision>
  <dc:subject/>
  <dc:title>Standard Form</dc:title>
</cp:coreProperties>
</file>